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007-BB8B-4852-85EA-D3A037FD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1ED-CB18-4EEE-B150-C7CEF78D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6B8-C6CF-4DEE-A077-F578922B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00C-BC5D-486E-9830-BD93B345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0AA-1BC1-46CD-A180-84C0F6FF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C8D-1088-4625-83C8-84E8E471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5DF-788D-430F-BFE5-FE32ED61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C38-359B-47DE-BF0A-BA5CDE4C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F6F-79D1-481B-9EFB-E21458F8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D75-B355-413E-AD1E-28D6CC21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2D5-995F-4651-AC66-58F77F7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5CB-FF08-46FB-817A-0ADAE47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BD13-DFBD-4ED6-AA01-AAF36B3BD3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49360"/>
            <a:ext cx="914400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ffff"/>
                </a:solidFill>
                <a:latin typeface="Arial"/>
                <a:cs typeface="????Boutros Rokaa"/>
              </a:rPr>
              <a:t>أنتم ملح الأر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تُم ملحُ الأرض، فإذا فَسَدَ الملحُ فأيُّ شيءٍ يُمَلِّحُهُ، إنه لا يصلُحُ إلاّ لأن يُطرَحَ في خارجِ الدارِ فيدوسه النا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أنتُم نورُ العالَم، لا تَخفَى مدينةٌ على جبل، ولا يوقدُ سراجٌ فيوضعَ تحتَ المِكيال، بَلْ على المنارةِ ليُضيءَ لجميع الذينَ هُم في البي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4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ليُضئ نورُكُم هكذا للناس لِيَروا أعمالَكُم الصالِحَة فيمجِّدوا أباكُم الذي في السماوا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1:46Z</dcterms:created>
  <dc:creator>Charbel Azar</dc:creator>
  <dc:description/>
  <dc:language>en-US</dc:language>
  <cp:lastModifiedBy>ف</cp:lastModifiedBy>
  <dcterms:modified xsi:type="dcterms:W3CDTF">2006-04-09T17:59:15Z</dcterms:modified>
  <cp:revision>5</cp:revision>
  <dc:subject/>
  <dc:title>Slide 1</dc:title>
</cp:coreProperties>
</file>